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C37295E0-D3B7-4105-8BEC-335ED3AC85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203480" y="700200"/>
            <a:ext cx="4599000" cy="3449520"/>
          </a:xfrm>
          <a:prstGeom prst="rect">
            <a:avLst/>
          </a:prstGeom>
          <a:ln w="0">
            <a:noFill/>
          </a:ln>
        </p:spPr>
      </p:sp>
      <p:sp>
        <p:nvSpPr>
          <p:cNvPr id="69"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on the second day of the June 15-17, 1999, DMA Technical Committee meeting, Costa Mesa, CA.</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ne 20 notes reflect the comments in that presentation, along with other elements to be attentive to.  The information is mostly in the notes pages of these slides.</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was provided by Dennis E. Hamilton of InfoNuovo on behalf of InfoNuovo and Xerox, who will provide the effort to integrate this proposal into the reference implementation and place it into trial usage.</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of the proposal ar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toshi Tanaka, Hitachi, mailto:tana_hi@soft.hitachi.co.j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nis E. Hamilton, InfoNuovo, mailto:infonuovo@email.co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ry Bonham, Xerox Corporation, mailto:lbonham@pahv.xerox.com</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03480" y="700200"/>
            <a:ext cx="4599000" cy="3449520"/>
          </a:xfrm>
          <a:prstGeom prst="rect">
            <a:avLst/>
          </a:prstGeom>
          <a:ln w="0">
            <a:noFill/>
          </a:ln>
        </p:spPr>
      </p:sp>
      <p:sp>
        <p:nvSpPr>
          <p:cNvPr id="8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s to the IANA and ISO specifications need to be cleaned up first.  We need clarity on exactly what we are talking about.  Dennis Hamilton has requested Larry Masinter’s review to ensure that we deal with this proper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organization of materials will be done by Dennis Hamilton as part of convening the Integration Subcommitt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203480" y="700200"/>
            <a:ext cx="4599000" cy="3449520"/>
          </a:xfrm>
          <a:prstGeom prst="rect">
            <a:avLst/>
          </a:prstGeom>
          <a:ln w="0">
            <a:noFill/>
          </a:ln>
        </p:spPr>
      </p:sp>
      <p:sp>
        <p:nvSpPr>
          <p:cNvPr id="71"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viewed the history of this a bit.  Dan Whelan, who created the first Internationalization proposals for DMA provided backgroun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MA 0.9 for trial-use, there was a form of DmaString that was a parameterized indirect structu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rial-use period prior to DMA 1.0 creation, we reverted to BSTR and Unicode as the default DmaString format and character-set-encoding.  (This is UCS-2, the base 16-bit subset of Unicode, not UTF-16, the multi-element scheme for encoding all of Unicode using 16-bit eleme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1.0 defines only DmaString as BSTR, although alternative character-set encodings to UCS-2 are defined and given constant identifications based on IANA numbers.  [Larry Masinter points out that we need to be careful with our language and use of identifiers h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iscussed the productivity that is obtained by using a single character-string format for a complete DMA session.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atisfies the 99.99% use case with highly-productive movement and usage of string-carried text information.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programs are written to use a single string format and character-set encoding for the duration of an execu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written in scripting languages (VBScript and Python), in Java, and in Visual Basic will work best with a single string case consistent with the programming model us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recognized that language (locale) can be bound lower, although there is no provision for language-tagging on individual strings at this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203480" y="700200"/>
            <a:ext cx="4599000" cy="3449520"/>
          </a:xfrm>
          <a:prstGeom prst="rect">
            <a:avLst/>
          </a:prstGeom>
          <a:ln w="0">
            <a:noFill/>
          </a:ln>
        </p:spPr>
      </p:sp>
      <p:sp>
        <p:nvSpPr>
          <p:cNvPr id="7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paration of string format, character code, and character-set encoding is fine, but we need to tighten our language and be consistent with the language used in the IETF and international community. [Larry Masint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ing of individual strings to languages, or use of some sort of language trigger on individual strings needs to be considered for working into the XML and WebDAV case.  This proposal does not address that pa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DAV material is currently transported in octet-based string formats (e.g., UTF-8 for ISO 10646) and there are ways to specify language at an individual property-value level.  WebDMA needs to explore thi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roposed to do anything about by-string language variation in MNCS, which operates higher than language, generally.  Having by-string language variation applies to the DMA Object Model for property values and needs to be dealt with there.  [It could be handled by additional String-valued property methods, for examp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203480" y="700200"/>
            <a:ext cx="4599000" cy="3449520"/>
          </a:xfrm>
          <a:prstGeom prst="rect">
            <a:avLst/>
          </a:prstGeom>
          <a:ln w="0">
            <a:noFill/>
          </a:ln>
        </p:spPr>
      </p:sp>
      <p:sp>
        <p:nvSpPr>
          <p:cNvPr id="75" name="PlaceHolder 2"/>
          <p:cNvSpPr>
            <a:spLocks noGrp="1"/>
          </p:cNvSpPr>
          <p:nvPr>
            <p:ph type="body"/>
          </p:nvPr>
        </p:nvSpPr>
        <p:spPr>
          <a:xfrm>
            <a:off x="931680" y="4383000"/>
            <a:ext cx="5136840" cy="44560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 service is required to support all interfaces.  The principle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vice object </a:t>
            </a:r>
            <a:r>
              <a:rPr b="0" i="1" lang="en-US" sz="1000" spc="-1" strike="noStrike">
                <a:solidFill>
                  <a:srgbClr val="000000"/>
                </a:solidFill>
                <a:latin typeface="Arial"/>
              </a:rPr>
              <a:t>must</a:t>
            </a:r>
            <a:r>
              <a:rPr b="0" lang="en-US" sz="1000" spc="-1" strike="noStrike">
                <a:solidFill>
                  <a:srgbClr val="000000"/>
                </a:solidFill>
                <a:latin typeface="Arial"/>
              </a:rPr>
              <a:t> provide interfaces compatible with the DMA_ConnectServiceObject entry case that it honored.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0" i="1" lang="en-US" sz="1000" spc="-1" strike="noStrike">
                <a:solidFill>
                  <a:srgbClr val="000000"/>
                </a:solidFill>
                <a:latin typeface="Arial"/>
              </a:rPr>
              <a:t>may</a:t>
            </a:r>
            <a:r>
              <a:rPr b="0" lang="en-US" sz="1000" spc="-1" strike="noStrike">
                <a:solidFill>
                  <a:srgbClr val="000000"/>
                </a:solidFill>
                <a:latin typeface="Arial"/>
              </a:rPr>
              <a:t> provide interfaces for other string formats, provided that doing so is consistent with the CharacterSetEncoding honored by the DMA_ConnectServiceObject entr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dition on IdmaServiceRegistry interfaces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s returned always honor the established character-set encoding and string forma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tring need be returned in a character-set encoding and string format different than the one which was used to enter the value [Service Registry implementations are not required to perform string format or encoding convers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ollary: strings created in entries must be in the character-set encoding specified for the registry entry and they can only be created with registry interfaces using that character-set encoding [consequence of the strong typing extended over character-set encodings by connection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ll of these cases are seen as penetrating up into the Win32 COM integration.  The response is “no.”  Although the interfaces are well-defined, it is not likely that any ActiveX application will handle anything but BSTR (DmaString) with the Unicode character-set-encoding.  There is an interoperability limitation on these legacy cases.  Interaction of this and WebDAV is not understood at this 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203480" y="700200"/>
            <a:ext cx="4599000" cy="3449520"/>
          </a:xfrm>
          <a:prstGeom prst="rect">
            <a:avLst/>
          </a:prstGeom>
          <a:ln w="0">
            <a:noFill/>
          </a:ln>
        </p:spPr>
      </p:sp>
      <p:sp>
        <p:nvSpPr>
          <p:cNvPr id="77"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s updated to reflect the discussion at the meeting.  Notice that the DmaString is built with 16-bit storage elements and that storage size for all forms is expressed in </a:t>
            </a:r>
            <a:r>
              <a:rPr b="1" lang="en-US" sz="1200" spc="-1" strike="noStrike">
                <a:solidFill>
                  <a:srgbClr val="000000"/>
                </a:solidFill>
                <a:latin typeface="Arial"/>
              </a:rPr>
              <a:t>size_t</a:t>
            </a:r>
            <a:r>
              <a:rPr b="0" lang="en-US" sz="1200" spc="-1" strike="noStrike">
                <a:solidFill>
                  <a:srgbClr val="000000"/>
                </a:solidFill>
                <a:latin typeface="Arial"/>
              </a:rPr>
              <a:t> uni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mitation on DmaString for carrying different string storage forms is that the elements are integers and thereby may be subject to byte-swapping or other conversions as part of transpo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all of the formats is that they are elements of binary integers.  Remote transport of the information preserves the integer values of the elements without regard to their use to encode character text information.  [There is an exception in the implementation of RPC for conversion between ASCII and EBCDIC, but this is not used with COM-interface remo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 is technically DmaString_B (a pun on ASTR and BSTR), but it has no suffix, being the defaul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in this model for DmaString_C (32 bits), etc.</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to ISO 646 is to the </a:t>
            </a:r>
            <a:r>
              <a:rPr b="0" i="1" lang="en-US" sz="1200" spc="-1" strike="noStrike">
                <a:solidFill>
                  <a:srgbClr val="000000"/>
                </a:solidFill>
                <a:latin typeface="Arial"/>
              </a:rPr>
              <a:t>characters</a:t>
            </a:r>
            <a:r>
              <a:rPr b="0" lang="en-US" sz="1200" spc="-1" strike="noStrike">
                <a:solidFill>
                  <a:srgbClr val="000000"/>
                </a:solidFill>
                <a:latin typeface="Arial"/>
              </a:rPr>
              <a:t> of the ISO 646 (7-bit international version of ASCII) character cod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dmaOIID property and other string-valued properties honor the syntax of URL’s, the character set required for URL’s must be support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platform-specific strings used with the system registry interface are conveyed in the prevailing character-set encoding, the registry functions are generally available only where the ISO 646 characters are available for specification in platform-specific strings (e.g., file nam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203480" y="700200"/>
            <a:ext cx="4599000" cy="3449520"/>
          </a:xfrm>
          <a:prstGeom prst="rect">
            <a:avLst/>
          </a:prstGeom>
          <a:ln w="0">
            <a:noFill/>
          </a:ln>
        </p:spPr>
      </p:sp>
      <p:sp>
        <p:nvSpPr>
          <p:cNvPr id="79"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we need to get our language and nomenclature straight, and properly reflect the nuances of character-set terminology in IANA and the ISO standard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discussed, the language of text is set at the Document Space connection level and it automatically applies to the </a:t>
            </a:r>
            <a:r>
              <a:rPr b="0" i="1" lang="en-US" sz="1200" spc="-1" strike="noStrike">
                <a:solidFill>
                  <a:srgbClr val="000000"/>
                </a:solidFill>
                <a:latin typeface="Arial"/>
              </a:rPr>
              <a:t>descriptive material </a:t>
            </a:r>
            <a:r>
              <a:rPr b="0" lang="en-US" sz="1200" spc="-1" strike="noStrike">
                <a:solidFill>
                  <a:srgbClr val="000000"/>
                </a:solidFill>
                <a:latin typeface="Arial"/>
              </a:rPr>
              <a:t>from a system and document space:</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message texts that may be offered to user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isplayName string-valued properties providing user-readable descriptive names for classes and properties in the language of the selected local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escriptiveText string-valued properties providing user-readable descriptive text for classes and properties in the language of the selected locale (e.g., about the use of the class or property)</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ocalized-identifier” within the connection-string format used in IdmaAuthenticate operations.  These identifiers provide a language-specific form for presentation to operators in carrying out authentication exchanges.  The normal labels used in connection strings are not language-varying and need not be useful to operators -- they are echoed by the DMA requester’s software but need not be displayed to operators if a localized-identifier is provid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of text does not extend, in DMA 1.0, to the language of the values of properties on non-metadata or non-infrastructure operations. Conventions for the language in which a string-valued property of a DocVersion (e.g., myProp_Title) is expressed is not specified within DMA 1.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03480" y="700200"/>
            <a:ext cx="4599000" cy="3449520"/>
          </a:xfrm>
          <a:prstGeom prst="rect">
            <a:avLst/>
          </a:prstGeom>
          <a:ln w="0">
            <a:noFill/>
          </a:ln>
        </p:spPr>
      </p:sp>
      <p:sp>
        <p:nvSpPr>
          <p:cNvPr id="81"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need to duplicate names of interfaces and macros that have no string-format-dependent methods or parameters, it simplifies the specification of programs to allow _A suffixes systematically.  Even IUnknown_A is tolerated.  There is no actual increase in the number of interfaces in this case, just redundancy in program-language namings of the same interfa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_T approach follows a convention already used for building char and wchar_t applications using a common source.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mains possible to build programs that operate internally in more than one string format and more than one character-set encoding (and language) under any string form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pplications require an extreme standard of care in their construction to operate properly and to be confirmed corre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using a single string format and a single character-set encoding in that format are supported more directly and simply, without any special burden on the developer to determine whether the expected strings are being suppli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String and DmaString_A operations are strongly typed, so the developer of applications is provided a first-level of defense against using the incorrect string type with any macro or interface metho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locale) mixing is the responsibility of the program design to keep straigh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set-encoding mixing is also the responsibility of the program design to keep sorted ou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03480" y="700200"/>
            <a:ext cx="4599000" cy="3449520"/>
          </a:xfrm>
          <a:prstGeom prst="rect">
            <a:avLst/>
          </a:prstGeom>
          <a:ln w="0">
            <a:noFill/>
          </a:ln>
        </p:spPr>
      </p:sp>
      <p:sp>
        <p:nvSpPr>
          <p:cNvPr id="8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Hamilton agreed to convene the Integration subcommittee.  It will need to produce statement(s) of work and schedules for the carrying out the MNCS extension definition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tion is promised for 30 June.  This means that the first call should be scheduled and everything needed to commence MNCS processing is availabl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ing of resource information includes updated sources on all of the character-set encodings and the international standards on character sets, especially 10646 and the 8859 fami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ed sketches were not circulated at the meeting because of a breakdown in Dennis Hamilton’s use of his configuration-management software.  Old versions were moved to his laptop and the newest versions were not available in Costa Mesa.  This was resolved by creating these slides inste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D5070-4234-40E6-AB05-79619B050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6DD53-AAF5-4ABE-917D-5469FB64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71564-A240-4BA3-8215-013C706D6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8E43D-E5B1-446E-A860-EB7211862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421AA-253D-4E9C-A0EC-99368DE1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2C711-EF16-4CBA-9362-BBA383FD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16AF-7E0B-4A37-A50C-D8661E42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845A-8EE2-4353-85D5-6414CA29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1A6D3-62DE-41DA-93A9-7C9661B52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708A-836E-4612-B828-592773F7E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DA29-162E-4539-8920-1CF2ED68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040C-0200-4B21-B1C6-4FCCAE286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8B03-2196-4042-A0F3-21BD26A23A95}"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120"/>
            <a:ext cx="7772400" cy="1752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DMA Extensions for Multinational Character Strings </a:t>
            </a:r>
            <a:endParaRPr b="1" lang="en-US" sz="3600" spc="-1" strike="noStrike">
              <a:solidFill>
                <a:srgbClr val="000000"/>
              </a:solidFill>
              <a:latin typeface="Tahoma"/>
            </a:endParaRPr>
          </a:p>
        </p:txBody>
      </p:sp>
      <p:sp>
        <p:nvSpPr>
          <p:cNvPr id="47" name="PlaceHolder 2"/>
          <p:cNvSpPr>
            <a:spLocks noGrp="1"/>
          </p:cNvSpPr>
          <p:nvPr>
            <p:ph type="subTitle"/>
          </p:nvPr>
        </p:nvSpPr>
        <p:spPr>
          <a:xfrm>
            <a:off x="761760" y="3886200"/>
            <a:ext cx="55623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MA Technical Committee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ration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16,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99-06-20 notes]</a:t>
            </a:r>
            <a:endParaRPr b="0" lang="en-US" sz="3200" spc="-1" strike="noStrike">
              <a:solidFill>
                <a:srgbClr val="000000"/>
              </a:solidFill>
              <a:latin typeface="Tahoma"/>
            </a:endParaRPr>
          </a:p>
        </p:txBody>
      </p:sp>
      <p:pic>
        <p:nvPicPr>
          <p:cNvPr id="48" name="DMA-logo-official-blue-negative" descr=""/>
          <p:cNvPicPr/>
          <p:nvPr/>
        </p:nvPicPr>
        <p:blipFill>
          <a:blip r:embed="rId1"/>
          <a:stretch/>
        </p:blipFill>
        <p:spPr>
          <a:xfrm>
            <a:off x="6705720" y="3733920"/>
            <a:ext cx="1773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Resources &amp; More Information</a:t>
            </a:r>
            <a:endParaRPr b="1" lang="en-US" sz="3600" spc="-1" strike="noStrike">
              <a:solidFill>
                <a:srgbClr val="000000"/>
              </a:solidFill>
              <a:latin typeface="Tahoma"/>
            </a:endParaRPr>
          </a:p>
        </p:txBody>
      </p:sp>
      <p:sp>
        <p:nvSpPr>
          <p:cNvPr id="6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Resource Information ASAP</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 1.0 integration and internationalization mechanisms - sources on the current specific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www.aiim.org/dma/TechnicalCommittee /integration creation of MNCS topi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infonuovo.com/dma/integration/MNCS area for pre-submission information and collateral materi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to IANA and related sources for character set definitions, collation sequences, et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subcommittee to be convened, with sponsorship of InfoNuovo and Xerox DMA Middleware team</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 Information by 30 June 1999</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48BAC9CC-8503-43A6-BB6B-2C77D34E2A56}" type="slidenum">
              <a:t>10</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DMA-logo-official-positive" descr=""/>
          <p:cNvPicPr/>
          <p:nvPr/>
        </p:nvPicPr>
        <p:blipFill>
          <a:blip r:embed="rId1"/>
          <a:stretch/>
        </p:blipFill>
        <p:spPr>
          <a:xfrm>
            <a:off x="2514600" y="380880"/>
            <a:ext cx="3986280" cy="5905800"/>
          </a:xfrm>
          <a:prstGeom prst="rect">
            <a:avLst/>
          </a:prstGeom>
          <a:ln w="0">
            <a:noFill/>
          </a:ln>
        </p:spPr>
      </p:pic>
      <p:sp>
        <p:nvSpPr>
          <p:cNvPr id="2" name="PlaceHolder 1"/>
          <p:cNvSpPr>
            <a:spLocks noGrp="1"/>
          </p:cNvSpPr>
          <p:nvPr>
            <p:ph type="ftr" idx="2"/>
          </p:nvPr>
        </p:nvSpPr>
        <p:spPr/>
        <p:txBody>
          <a:bodyPr/>
          <a:p>
            <a:r>
              <a:t>MNCS: DMA Extensions for Multinational Character Strings</a:t>
            </a:r>
          </a:p>
        </p:txBody>
      </p:sp>
      <p:sp>
        <p:nvSpPr>
          <p:cNvPr id="3" name="PlaceHolder 2"/>
          <p:cNvSpPr>
            <a:spLocks noGrp="1"/>
          </p:cNvSpPr>
          <p:nvPr>
            <p:ph type="sldNum" idx="3"/>
          </p:nvPr>
        </p:nvSpPr>
        <p:spPr/>
        <p:txBody>
          <a:bodyPr/>
          <a:p>
            <a:fld id="{C997B0C4-01D2-413A-BC74-16A7F459D831}" type="slidenum">
              <a:t>11</a:t>
            </a:fld>
          </a:p>
        </p:txBody>
      </p:sp>
      <p:sp>
        <p:nvSpPr>
          <p:cNvPr id="4" name="PlaceHolder 3"/>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Outline</a:t>
            </a:r>
            <a:endParaRPr b="1" lang="en-US" sz="3600" spc="-1" strike="noStrike">
              <a:solidFill>
                <a:srgbClr val="000000"/>
              </a:solidFill>
              <a:latin typeface="Tahoma"/>
            </a:endParaRPr>
          </a:p>
        </p:txBody>
      </p:sp>
      <p:sp>
        <p:nvSpPr>
          <p:cNvPr id="50"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Purpo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Approa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nd More Inform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FA6C8683-4A60-4B5C-BD31-93C572DF23BC}" type="slidenum">
              <a:t>2</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Purpose</a:t>
            </a:r>
            <a:endParaRPr b="1" lang="en-US" sz="3600" spc="-1" strike="noStrike">
              <a:solidFill>
                <a:srgbClr val="000000"/>
              </a:solidFill>
              <a:latin typeface="Tahoma"/>
            </a:endParaRPr>
          </a:p>
        </p:txBody>
      </p:sp>
      <p:sp>
        <p:nvSpPr>
          <p:cNvPr id="5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the DMA Multinational character-set support to 8-bit as well as 16-bit string format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native character-string forms (e.g., octets for ASCII, EBCDIC, shift-JIS) that are important for high-performance use with legacy repositories, databases, and platform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e the default BSTR and Unicode cases of DMA while tolerating special-purpose character set encodings and forma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456D87DA-B120-4E93-A5E5-AC56541DE0BD}" type="slidenum">
              <a:t>3</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Approach</a:t>
            </a:r>
            <a:endParaRPr b="1" lang="en-US" sz="3600" spc="-1" strike="noStrike">
              <a:solidFill>
                <a:srgbClr val="000000"/>
              </a:solidFill>
              <a:latin typeface="Tahoma"/>
            </a:endParaRPr>
          </a:p>
        </p:txBody>
      </p:sp>
      <p:sp>
        <p:nvSpPr>
          <p:cNvPr id="54" name="PlaceHolder 2"/>
          <p:cNvSpPr>
            <a:spLocks noGrp="1"/>
          </p:cNvSpPr>
          <p:nvPr>
            <p:ph/>
          </p:nvPr>
        </p:nvSpPr>
        <p:spPr>
          <a:xfrm>
            <a:off x="456840" y="1523880"/>
            <a:ext cx="8178840" cy="464832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en Principles of Character Set Encoding</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ion of string format, character-set repertoire and encoding princi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s at which character-set-encoding details are bound in conjunction with API</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roposals</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on Model and Interfaces for MNC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ility Library for MNCS-capable applications and servi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1DE3BAF8-ABEE-47DC-A5DA-D7C7C445FFDF}" type="slidenum">
              <a:t>4</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Integrating Octet-String Formats</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5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octet-string datatyp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lement DmaString with DmaString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to octet-string usag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aConnectSystemManager_A entry</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onnectServiceObject_A op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 DMA Interfaces for octet-string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maMumble -&gt; IdmaMumble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fy IdmaServiceRegistry and IdmaServiceRegistry_A use of encodings</a:t>
            </a:r>
            <a:endParaRPr b="0" lang="en-US" sz="2400" spc="-1" strike="noStrike">
              <a:solidFill>
                <a:srgbClr val="000000"/>
              </a:solidFill>
              <a:latin typeface="Tahoma"/>
            </a:endParaRPr>
          </a:p>
          <a:p>
            <a:pPr lvl="1" marL="72792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itions on returning a string when request is not using the original character-set-encod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3F8A8AB5-7A49-4C23-A2F4-229DBADFC2BA}" type="slidenum">
              <a:t>5</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Define octet-string datatype</a:t>
            </a:r>
            <a:endParaRPr b="1" lang="en-US" sz="3200" spc="-1" strike="noStrike">
              <a:solidFill>
                <a:srgbClr val="000000"/>
              </a:solidFill>
              <a:latin typeface="Tahoma"/>
            </a:endParaRPr>
          </a:p>
        </p:txBody>
      </p:sp>
      <p:pic>
        <p:nvPicPr>
          <p:cNvPr id="58" name="" descr=""/>
          <p:cNvPicPr/>
          <p:nvPr/>
        </p:nvPicPr>
        <p:blipFill>
          <a:blip r:embed="rId1"/>
          <a:stretch/>
        </p:blipFill>
        <p:spPr>
          <a:xfrm>
            <a:off x="1143000" y="1576440"/>
            <a:ext cx="8001000" cy="4630680"/>
          </a:xfrm>
          <a:prstGeom prst="rect">
            <a:avLst/>
          </a:prstGeom>
          <a:ln w="0">
            <a:noFill/>
          </a:ln>
        </p:spPr>
      </p:pic>
      <p:sp>
        <p:nvSpPr>
          <p:cNvPr id="3" name="PlaceHolder 2"/>
          <p:cNvSpPr>
            <a:spLocks noGrp="1"/>
          </p:cNvSpPr>
          <p:nvPr>
            <p:ph type="ftr" idx="2"/>
          </p:nvPr>
        </p:nvSpPr>
        <p:spPr/>
        <p:txBody>
          <a:bodyPr/>
          <a:p>
            <a:r>
              <a:t>MNCS: DMA Extensions for Multinational Character Strings</a:t>
            </a:r>
          </a:p>
        </p:txBody>
      </p:sp>
      <p:sp>
        <p:nvSpPr>
          <p:cNvPr id="4" name="PlaceHolder 3"/>
          <p:cNvSpPr>
            <a:spLocks noGrp="1"/>
          </p:cNvSpPr>
          <p:nvPr>
            <p:ph type="sldNum" idx="3"/>
          </p:nvPr>
        </p:nvSpPr>
        <p:spPr/>
        <p:txBody>
          <a:bodyPr/>
          <a:p>
            <a:fld id="{1045DE0C-A36B-4512-84B1-D47828AC468A}" type="slidenum">
              <a:t>6</a:t>
            </a:fld>
          </a:p>
        </p:txBody>
      </p:sp>
      <p:sp>
        <p:nvSpPr>
          <p:cNvPr id="5" name="PlaceHolder 4"/>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Sketch:</a:t>
            </a:r>
            <a:br>
              <a:rPr sz="3600"/>
            </a:br>
            <a:r>
              <a:rPr b="1" lang="en-US" sz="3600" spc="-1" strike="noStrike">
                <a:solidFill>
                  <a:srgbClr val="000000"/>
                </a:solidFill>
                <a:latin typeface="Tahoma"/>
              </a:rPr>
              <a:t>Encoding separate from String</a:t>
            </a:r>
            <a:endParaRPr b="1" lang="en-US" sz="3600" spc="-1" strike="noStrike">
              <a:solidFill>
                <a:srgbClr val="000000"/>
              </a:solidFill>
              <a:latin typeface="Tahoma"/>
            </a:endParaRPr>
          </a:p>
        </p:txBody>
      </p:sp>
      <p:sp>
        <p:nvSpPr>
          <p:cNvPr id="60"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MA allows character-set encodings that fit in the elements of the string form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format is just for the bits of particular element/frame sequen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set encoding specified using IANA identifications (e.g., UCS-2, ISO 8859-7, EUC-J)</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 of text specifiable and variable separate from character-set encod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76A71044-3A3D-46E8-8E8B-1CFDB9DEBA59}" type="slidenum">
              <a:t>7</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MN String Portability Library</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6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 basic support macros for octet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REATE_STRING_A, DMA_FREE_STRING_A, ...</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BSTR and ASTR functions to simplify portability and reus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strings, comparing strings, counting characters, ...</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character set encodings from literal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maString_T Libraries for working with either format in a compiled program</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_T mapped to either BSTR or ASTR everywher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A_CREATE_STRING_T, ...</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 and DmaString_A remain explicitly us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1385FB8C-5298-47AD-81FD-9002E14184D8}" type="slidenum">
              <a:t>8</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Next Steps</a:t>
            </a:r>
            <a:endParaRPr b="1" lang="en-US" sz="3600" spc="-1" strike="noStrike">
              <a:solidFill>
                <a:srgbClr val="000000"/>
              </a:solidFill>
              <a:latin typeface="Tahoma"/>
            </a:endParaRPr>
          </a:p>
        </p:txBody>
      </p:sp>
      <p:sp>
        <p:nvSpPr>
          <p:cNvPr id="64"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Resource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Proposal Sketch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e Integration Subcommitte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urope and Asia-Japa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Nuovo and Xerox Middleware team will convene subcommitte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Create and Report statement of work</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initiation by 30 June 1999</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E1B241A8-AE14-4116-8BA7-F3DC4AB8DA44}" type="slidenum">
              <a:t>9</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Presented at the second day of the June 15-17, 1999, DMA Technical Committee Meeting, Costa Mesa, CA.  The updates were made following the presentation and are reflected in the slide notes.</dc:description>
  <dc:language>en-US</dc:language>
  <cp:lastModifiedBy>Dennis E. Hamilton</cp:lastModifiedBy>
  <cp:lastPrinted>1998-10-12T22:28:23Z</cp:lastPrinted>
  <dcterms:modified xsi:type="dcterms:W3CDTF">1999-06-20T16:05:06Z</dcterms:modified>
  <cp:revision>67</cp:revision>
  <dc:subject>DMA Multinational Character Strings</dc:subject>
  <dc:title>MNCS: DMA Extensions for Multinational Character Strings</dc:title>
</cp:coreProperties>
</file>